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6858000" cy="5486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92F7-F795-406F-8B47-6E42FCB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DBB0B-4F24-4D0A-BBE8-E1C68FA6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C586-808E-4A2A-BCEE-E246DA7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2248-3C0A-40D9-9597-DA692A3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BE75A-8E52-4603-AF88-A6FFF53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F7879-2F7C-42FA-87D3-28EAD4E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4458-01BB-4521-9E12-285A765A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270F-6A98-4A43-838E-96F8541A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1697-36B8-4D11-8520-1F8ADAF8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FE962-7A84-4346-B514-CD682153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F07DE-382B-4315-B16E-3883859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D23F-9F41-495F-9AC8-A29D00F8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4F979-F678-4A55-A44E-19328FCB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F3EAF-49A6-4CAE-BEF4-00248DD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BF487-9200-43F5-8B0A-36B493A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2E4CF-64BD-4948-9EAD-8A04B8A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7B92D-7669-4AFE-B89B-7EA4FCA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302EB-9B79-47A5-9633-4E35E04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82A40-A278-4079-94E0-E9B6C076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4BF0D-7831-490D-A62D-9AF6953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29020-8DDF-4FF1-B38D-292BF934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C4E5-F671-4FC8-8F39-D8EA4302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9057F-78B6-473E-98B7-FBA2FC7D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4BA26-643B-4BF5-871B-B367175F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8805F-4180-4521-84A1-DF6FC9D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6A48-C3E1-48EB-A6AB-6648AFE6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D8891-A077-49F5-AB43-91C9E428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DE139-F437-4556-96D0-04EDE06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7A4EF-C443-411A-84BB-056C1F1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FE982-5326-45ED-9BCF-A9ED176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A32-AD12-4A63-8591-513D00EE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A4C35-450B-4291-843B-E9A1D87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0DC9E-FDF2-412C-97D3-694D8748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03600-1B76-486F-82EB-22ADD933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D9344-394D-4A8E-9120-AD4B776C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D4EDE-36FD-4B2B-8408-2F3CBEA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FBB9-46EC-4F9B-A952-378720CF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9A869-976E-4A0C-858B-163C0B26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A495-1748-4370-AAAC-8DBF44A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0C11D-1278-441E-98BF-3A329B59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D38C1-4D03-4E52-B031-BA29483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CF4-561E-477E-8635-FFF1EF40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6E72-AFF6-4BFF-95FE-F632C50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7F8E7-5024-4D7D-8723-180660A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7AE2A-4B82-4342-8C1B-2654AE73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31F57-88A0-4FBA-9CC0-8AEB2F5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AD528-8476-42F8-8861-4FA22511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8ED-0193-4307-B1AF-2B6A4E53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34C-C864-4A83-B96C-8E2C7D0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5C1-AAB3-4257-8254-1B99B64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E3D-A663-4EA2-99E8-FFA4771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84F-D258-4C59-92DF-492A7B1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D36-41CA-4AF3-9A05-28C7FAB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C33-5997-422E-9AC0-5ED228E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6F4-CF7D-4BFC-ADE1-12D4083A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C45-B3EC-4864-B437-5E0EA575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B67-9F79-4157-B84F-898EFD2B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7EA5-C0A8-4CE1-BA9B-606630C4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ABC1-1493-4407-B437-F73AA9E3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930F-A5B6-4291-AA3F-D05ECF13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0882-D0A9-445B-88A0-2C923B5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688C-0C18-419E-BD9A-44BA9FFB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26AD-AB72-4AD0-B7D8-923B2E2C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101D-45F3-491C-811E-3317BDE3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3EFD-9018-4987-A060-2728734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75A7-9BE1-4FB8-B51C-96F7128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A52-1C64-43DE-A623-F70BCD3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992-D198-4150-AC4F-3099171D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1FE-A643-4FEC-8B3C-C7EF0243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FA34-59BC-47A0-9D15-2A609FD2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6122-B180-4928-B18B-D8F8239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3CE8-189E-471D-BAF7-659369F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CC87-1336-4E48-8CB3-B29EBE14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C872-A5C8-4EE3-BBE2-B8AB69EE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91040-E89F-4B9D-A273-56F6A106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88E4-8547-418D-937B-D7CBD4EC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F43F-C181-4FDC-A7FF-69C2AFA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6786-C73D-4B16-9A56-13865E8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20AA-D7E7-4FF4-8069-4031366B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0CA3-AA13-4FFF-98B2-3FF768F0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8B87-D75D-460D-828E-4BC3285B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C932-C27B-457A-B2C1-166BC902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AAD5-2DE5-4B80-8F28-79777CF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862B-0A87-4348-8A5B-88B5A57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C167-C6EB-49D9-9A86-28286471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C9CA-4F4C-4AD8-B016-19BFE3E4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2342-5FE5-44FD-93B4-5996A29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2BA1-1A0B-470A-92AB-1690904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4588-FD84-4A22-AE7F-A4B4AA8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9E30-4DCB-40D2-A3C8-D4D2F1E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DC6F-D9F6-4407-A1C0-4E23A93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F2F1-F0D5-487D-8764-CB35E10F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02EF-A3A8-46BD-889D-1AAD468E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2E7D9-FFAF-49FE-8D7F-CD5062D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D72BA-530B-41A5-859D-3B98CA0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7787-611F-4FA4-96D8-D95FB3B3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8DEEC-CC12-4D90-ADE3-8F1C4190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98AA-AA1D-41B8-82E2-7485C89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75C7B-49C1-4615-A139-1C0CA76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5B21-FBDE-4B26-B44B-59D2C1A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21FF-ADE5-4CA0-AC24-012A36F6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76F5-9292-42ED-A920-AE5DA04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A22F0-3D44-443D-9FE5-49F6DA5A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F3AE7-8613-451A-8783-C1E47BD3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3999-9062-45CE-9D1F-7537A7D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BC67-B66F-4BEB-AA3F-BC6C65C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769D-7ECF-4163-9C0B-6CA68EFE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B382B-6A70-4A70-B036-6AE5E5B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C867-23C4-45C0-830A-F46E337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AAC32-10E7-4824-A302-A8FDF11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49D6-EEE7-4D55-AA99-BB23CB75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72EB-0F39-4096-AE03-716C664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12D9A-CE14-41C7-B238-993C891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5F2D-9B0C-44DF-B70F-D1CF1C5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D9A9-A07B-4DB6-A4B0-63BD1CC5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AA23-50F8-4203-81AA-09CC339C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5A869-2323-4340-A945-5BB0F268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6AEB-7044-4D3A-BA2E-980E8D6C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A629-07C9-472E-8E81-6BF0DABB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AF8C5-5889-4D7F-ADA4-8D7183A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D7098-8210-4E9B-8A25-F567D6CB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54B69-523E-4415-93C3-171E418D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A2A3D-33DD-49E0-97CE-BC6CB5DC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7AB8-2486-453D-8001-0345073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A810-50FC-44EB-912E-D0552DFC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9BDA4-B52D-4C0D-8FCD-11F9C19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B668-2918-4035-9D03-1F6F2068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04E5-CFCC-46FC-AF1A-57B9F91B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3D7E-6A12-42CE-98C5-627FECDF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B98C7-0BF6-4017-A66B-F957704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38E2-02FC-4754-B3A4-15CC340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A5323-9EC7-43C8-A5E0-83FE822D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55B04086-EFFE-47B3-85CE-F7FE29FFA08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EBB93A6F-3D1C-41A8-8A67-772B8D43EE0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29B2E978-2423-4ECA-BBF9-D8BB5133639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ReadyBizInvite_bkgd*.jpg"/>
          <p:cNvPicPr/>
          <p:nvPr/>
        </p:nvPicPr>
        <p:blipFill>
          <a:blip r:embed="rId3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4E755AA7-51B9-428C-9B56-7CBF3059040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FD44F6E9-3068-4612-AE62-43DDFDE130E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DB3C67E9-90A2-4B76-B56C-F2AB8661E23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B987B405-5844-4AFB-884A-23AEEBECC02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5368DA46-5C3F-4BC6-B19F-7BDB128AE99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21E70C10-2BA1-45AE-A26E-D6BB86DD31D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541E0C0-6251-4C62-9645-542403D20D3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57BFA6E-66F9-44B3-B165-1A725BD7945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tle 1"/>
          <p:cNvSpPr/>
          <p:nvPr/>
        </p:nvSpPr>
        <p:spPr>
          <a:xfrm>
            <a:off x="174600" y="184320"/>
            <a:ext cx="3541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elvetica Neue Light"/>
              </a:rPr>
              <a:t>[Insert Year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WORKSHOP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Placeholder 4"/>
          <p:cNvSpPr/>
          <p:nvPr/>
        </p:nvSpPr>
        <p:spPr>
          <a:xfrm>
            <a:off x="4143240" y="1611360"/>
            <a:ext cx="2306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Business Hurricane Worksh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Placeholder 4"/>
          <p:cNvSpPr/>
          <p:nvPr/>
        </p:nvSpPr>
        <p:spPr>
          <a:xfrm>
            <a:off x="4135320" y="2239920"/>
            <a:ext cx="230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Dat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:00 a.m. – 3:00 p.m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Placeholder 4"/>
          <p:cNvSpPr/>
          <p:nvPr/>
        </p:nvSpPr>
        <p:spPr>
          <a:xfrm>
            <a:off x="4135320" y="2976480"/>
            <a:ext cx="2530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Workshop Lo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ity, State Zip Cod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Placeholder 4"/>
          <p:cNvSpPr/>
          <p:nvPr/>
        </p:nvSpPr>
        <p:spPr>
          <a:xfrm>
            <a:off x="4135320" y="3897360"/>
            <a:ext cx="2530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rkshop is free, but registration is required. </a:t>
            </a: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lick he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163440" y="2070000"/>
            <a:ext cx="35528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Identify Your Ri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about business continuity, disaster response, and the cost benefit of preparing hurricanes and other business interrup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Develop a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reparedness and mitigation actions needed to ensure safety and business continuity. Complete assessments and begin planning for retrofit projec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Take 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how to perform preparedness and mitigation activities using Ready Busines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163440" y="1641600"/>
            <a:ext cx="35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Ready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[Insert Location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9"/>
          <p:cNvSpPr/>
          <p:nvPr/>
        </p:nvSpPr>
        <p:spPr>
          <a:xfrm>
            <a:off x="163440" y="1227240"/>
            <a:ext cx="35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000" spc="-1" strike="noStrike">
                <a:solidFill>
                  <a:srgbClr val="458626"/>
                </a:solidFill>
                <a:latin typeface="Arial"/>
              </a:rPr>
              <a:t>JOIN 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FLASH-horizontal-tagline-RGB.jpg"/>
          <p:cNvPicPr/>
          <p:nvPr/>
        </p:nvPicPr>
        <p:blipFill>
          <a:blip r:embed="rId1"/>
          <a:stretch/>
        </p:blipFill>
        <p:spPr>
          <a:xfrm>
            <a:off x="2747880" y="4830840"/>
            <a:ext cx="1387440" cy="4856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DHS_FEMA Logo horizontal.eps"/>
          <p:cNvPicPr/>
          <p:nvPr/>
        </p:nvPicPr>
        <p:blipFill>
          <a:blip r:embed="rId2"/>
          <a:stretch/>
        </p:blipFill>
        <p:spPr>
          <a:xfrm>
            <a:off x="903240" y="4905360"/>
            <a:ext cx="1258920" cy="44928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"/>
          <p:cNvSpPr/>
          <p:nvPr/>
        </p:nvSpPr>
        <p:spPr>
          <a:xfrm>
            <a:off x="4302000" y="479268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Change out and a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logos as need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22:44:12Z</dcterms:created>
  <dc:creator>AnnaK</dc:creator>
  <dc:description/>
  <dc:language>en-US</dc:language>
  <cp:lastModifiedBy>Sarah Chason</cp:lastModifiedBy>
  <dcterms:modified xsi:type="dcterms:W3CDTF">2017-02-03T20:29:24Z</dcterms:modified>
  <cp:revision>16</cp:revision>
  <dc:subject/>
  <dc:title>PowerPoint Presentation</dc:title>
</cp:coreProperties>
</file>